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75B-AC6F-48E3-8896-4B634C9B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5D2-0F5F-4CC6-8DCD-AC4C501F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F54-5484-45A4-92AC-86962398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369-BE18-47E2-9024-4B8BC0FE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E8F-A3AF-41CC-8140-DF213D98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AA8-2DA5-49E7-B790-60A38A68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7A7-8B98-4C7C-8C8C-DF648DF1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92D-0117-4F3F-9531-1DF1B7D7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988-6894-4AE4-8DB9-EBDA27E4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742-00C5-4F29-AD25-CE40AB62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6BC-129F-4B2E-B5C2-6694A84A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8E2-D2D9-495C-9686-C23611BA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0BAC-32AB-404D-8D6F-E01DC2115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s of Linear Inequalit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9051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ving Systems of Linear Inequalities by Grap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65080" y="698400"/>
            <a:ext cx="74138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9436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5029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235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5473800"/>
            <a:ext cx="87631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886200" cy="81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70520" y="5160960"/>
            <a:ext cx="22212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1752480"/>
            <a:ext cx="236196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00600"/>
            <a:ext cx="6019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1905120"/>
            <a:ext cx="28195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348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4267080"/>
            <a:ext cx="2590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4267080"/>
            <a:ext cx="2514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100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6095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and Using Systems of Linear 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925040" cy="857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4953240" cy="75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191120"/>
            <a:ext cx="8458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671400"/>
            <a:ext cx="86104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5345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0:05:48Z</dcterms:created>
  <dc:creator>Susannah Graham</dc:creator>
  <dc:description/>
  <dc:language>en-US</dc:language>
  <cp:lastModifiedBy>BRSD</cp:lastModifiedBy>
  <dcterms:modified xsi:type="dcterms:W3CDTF">2010-04-08T13:19:49Z</dcterms:modified>
  <cp:revision>4</cp:revision>
  <dc:subject/>
  <dc:title>Lesson 3.6 Systems of Linear Inequalities </dc:title>
</cp:coreProperties>
</file>